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8455-8BF9-49ED-A62E-23CD44780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B462-8E49-4734-B1BA-761239941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AC70-C716-4542-85B9-5CDAA424C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3702-B8B9-49D9-9B75-6715EB815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75C53-AC44-4C66-9270-453F57F45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4025E-6EC4-4673-9737-4AA9B590F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61D3A-1E92-4306-9580-233C556A0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6C1F7-DF56-4E35-A95E-ED4BDD028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6174D-43BB-4107-AB71-8DD205459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291A7-9C76-4381-B47C-032BAF92F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1D629-5BFA-427F-B2AA-CFD2F45F6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4CAE-D9E4-4BAA-9655-6481B83F5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AF3E9-CCCD-43BC-81A7-826497B52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AD91C-9E3F-4C23-B029-5E1D38BB4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A1A24-92B9-4271-91D7-48DBE64C8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CC3B2-2622-450B-9ACD-04AD0784B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5E5A9-DB8A-4B46-9636-83280626D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937ED6-C4B0-4D39-BD7B-AE27ABB7F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6C4A10-C991-4358-9A13-3685B612B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84795D-42CC-406A-AF3C-7523EFB35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7DD859-DD89-43F2-8EE7-973435AC8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51A4DD-BA5D-4C8A-8B4F-57E3CFCB7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EF1A-E2B8-48E9-8810-997BFF945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912F76-95E7-4176-8046-CBCC240D0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B156C2-4DD9-4550-8B83-662C500D5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42DD92-36FB-4E72-AED7-C51D33D7B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870035-96EE-42B0-B6AA-3E20A6540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4CF37A-64F1-4A5E-B276-D5BF9D034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1FABC7-4D64-4369-ABCA-DDEBBD40C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C7FD95-2F09-410F-9AE0-F8ABD5F38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5E7A90-103E-4A45-A376-A459FA7E2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CE1E6B-4122-49B7-AF8D-4839CA4E4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47559B-AB4B-4EF0-AE5A-E4FF4CD97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0C83-187D-4351-AEBF-8796D761B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086D5C-2FBF-4A5E-9317-F59C73BA1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1B3BCE-7E92-415B-9BDB-F9F3590F1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9F0520-D0F0-4B56-BE56-239ED62FF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77BDEE-2759-484B-B57C-76BC3D549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3434BB-DBA1-40A0-9CD5-871772BAE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FDE72B-A4DC-4C2A-89DD-7B8E18C44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D873A9-DA4F-49EA-ACC6-0C28161C0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5E3608-D3E3-44FC-AEB5-CE15E801D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227BD0-7099-4E6C-9726-1EE60E59D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A2C9-35C2-41A3-B0B8-5F17B6DDA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7272-AF5F-4EFF-A2B8-17DA8A89E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A6C0-0D4B-467E-8600-11023F332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481B-F7B5-48C0-9FC8-69BAEBF39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B955-90FE-4119-B948-9B570444F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6DFB6-D3A4-4B67-9B78-045976EE30DF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675B9-E01D-4A68-9338-037699D168B0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8566F-EA0C-4A3D-AA7E-1A28DD658296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E52D0-60FD-4396-B5B7-F93D82329EE0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530280" y="701640"/>
            <a:ext cx="8547120" cy="255924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457200" y="3700080"/>
            <a:ext cx="8305920" cy="13842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d0d0d"/>
                </a:solidFill>
                <a:latin typeface="Constantia"/>
              </a:rPr>
              <a:t>презентация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d0d0d"/>
                </a:solidFill>
                <a:latin typeface="Constantia"/>
              </a:rPr>
              <a:t>ученицы 6 класса «В»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d0d0d"/>
                </a:solidFill>
                <a:latin typeface="Constantia"/>
              </a:rPr>
              <a:t>Жук Алёны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7" name="Picture 6" descr="1253143630"/>
          <p:cNvPicPr/>
          <p:nvPr/>
        </p:nvPicPr>
        <p:blipFill>
          <a:blip r:embed="rId2"/>
          <a:srcRect l="0" t="20816" r="4989" b="2026"/>
          <a:stretch/>
        </p:blipFill>
        <p:spPr>
          <a:xfrm>
            <a:off x="214200" y="1928880"/>
            <a:ext cx="4357800" cy="47005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-360" y="404640"/>
            <a:ext cx="5435640" cy="645336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Александр Иванович Куприн родился в городе Наровчат Пензенской губернии в небогатой чиновничьей семье. Детство и юность Куприна прошла в Москве. Тринадцать лет детства и юности Александр Иванович провёл в закрытых учебных заведениях. После тяжких лет казарменной жизни скитался по России, был и репортёром, и грузчиком и управляющим на стройке, землемером, работал на литейном заводе, выступал на сцене, изучал зубоврачебное дело, был журналистом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9" name="Picture 2" descr="C:\Users\Public\Pictures\Sample Pictures\Batkin1.jpg"/>
          <p:cNvPicPr/>
          <p:nvPr/>
        </p:nvPicPr>
        <p:blipFill>
          <a:blip r:embed="rId1"/>
          <a:stretch/>
        </p:blipFill>
        <p:spPr>
          <a:xfrm>
            <a:off x="5327640" y="244440"/>
            <a:ext cx="3852720" cy="550404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2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p:transition spd="slow">
    <p:wheel spokes="1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7T18:54:52Z</dcterms:created>
  <dc:creator>Алёна</dc:creator>
  <dc:description/>
  <dc:language>en-US</dc:language>
  <cp:lastModifiedBy>Пользователь Windows</cp:lastModifiedBy>
  <dcterms:modified xsi:type="dcterms:W3CDTF">2014-02-12T10:38:52Z</dcterms:modified>
  <cp:revision>14</cp:revision>
  <dc:subject/>
  <dc:title>Александр Иванович Куприн</dc:title>
</cp:coreProperties>
</file>