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28BE-5EFC-4B46-84A8-8E77FCCFD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045B-A475-4F38-95DD-1244CCC6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E0E2-9598-466B-9950-CD2236446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20AC-9306-4759-9B2E-CD8736A87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D409-1BD1-4E88-8858-423EE7AF3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0EF5-1830-403A-B252-B3F10AE7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9802-6CB4-4641-863B-F9856332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8FF5-7554-4A1D-9EBB-4940336C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67C0-A596-4D27-B838-1C334EF1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9401-81D9-4C2F-B06A-E5BAB3BD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21E5-E975-4DFE-A8E3-1E922FFD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844C-B53B-48B1-BEB2-47E65840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172B-87A8-4625-9636-D3A84C01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CB45-C904-4543-A210-DF0DA3A1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0DCF-D364-4D33-ACF4-3FA9DFDD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9A37-E466-4194-BC00-CE3990E60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E687-2983-4947-AD9A-8DF7FC4FD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FCAD9-0D04-4A51-82B5-65CF44B1B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C412D-AD39-4D23-BDB7-F9C4E0A5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50882-B8FA-40D3-A6DC-680419E5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8AC8E-0108-4371-85B5-30E90AFF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D8DD3-FE59-4EB2-BB69-7BE44195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2A5D-223F-4A5B-8A2F-8F9C18E5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B094F-F49F-4384-80D1-1EC16286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E417F-F12F-4020-B90D-4294443A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9986B-D5D7-45BF-8AE1-04FD0437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29183-75A4-4D7E-AFA5-101EE66E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F9041-AA5E-4B95-85B0-A4FB189B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7D2AA-8713-48C9-ABDC-D227388C8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0487D-A0B6-405B-84C3-5C4E5E83A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D0727-D559-4A20-8722-6113F6FC4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435C2-C292-4F01-8C64-3BF62158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C0278-D79D-4883-BF7D-A7A73B07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A2A6-2A6A-493D-B425-D49C8C7A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4E696-97F0-40D2-B906-EF717E3C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AEFC9-42B2-43EF-9F84-4B71F235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AD6A2-4317-43B8-98D2-C2EA529E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61D68-9DD2-4F3D-93DB-57BE6C3B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888B7-CA18-4CFB-8E89-8226FA05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62371-3ED6-45B7-B98A-40979686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BBFDC-6DB6-4002-96A6-376385AC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209D6-CA0F-4244-A1AB-83D002C1E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800E3-61D8-48B0-BE79-3F8C517AB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BFD2-13C6-4B2F-A25E-05BE01D3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B3A1-E0E3-410D-ABB1-FCEE9C7D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3BE9-50C7-43AB-B4B0-DC19F97F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5417-65BB-408B-BF4A-DDF0D8F1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12AE-0B24-4979-B303-70102B81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9D28-B2AB-4848-97F7-64287742374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8A4D-FDB2-4A87-96DB-54FDF620CC4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B5AB-69C2-4C62-B72A-45CE2A3F572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9B13-D235-4414-A979-D1ADDDC4405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8547120" cy="2559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384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презентац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ученицы 6 класса «В»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Жук Алё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6" descr="1253143630"/>
          <p:cNvPicPr/>
          <p:nvPr/>
        </p:nvPicPr>
        <p:blipFill>
          <a:blip r:embed="rId2"/>
          <a:srcRect l="0" t="20816" r="4989" b="2026"/>
          <a:stretch/>
        </p:blipFill>
        <p:spPr>
          <a:xfrm>
            <a:off x="214200" y="1928880"/>
            <a:ext cx="435780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5435640" cy="64533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лександр Иванович Куприн родился в городе Наровчат Пензенской губернии в небогатой чиновничьей семье. Детство и юность Куприна прошла в Москве. Тринадцать лет детства и юности Александр Иванович провёл в закрытых учебных заведениях. После тяжких лет казарменной жизни скитался по России, был и репортёром, и грузчиком и управляющим на стройке, землемером, работал на литейном заводе, выступал на сцене, изучал зубоврачебное дело, был журналист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C:\Users\Public\Pictures\Sample Pictures\Batkin1.jpg"/>
          <p:cNvPicPr/>
          <p:nvPr/>
        </p:nvPicPr>
        <p:blipFill>
          <a:blip r:embed="rId1"/>
          <a:stretch/>
        </p:blipFill>
        <p:spPr>
          <a:xfrm>
            <a:off x="5327640" y="244440"/>
            <a:ext cx="3852720" cy="55040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18:54:52Z</dcterms:created>
  <dc:creator>Алёна</dc:creator>
  <dc:description/>
  <dc:language>en-US</dc:language>
  <cp:lastModifiedBy>Пользователь Windows</cp:lastModifiedBy>
  <dcterms:modified xsi:type="dcterms:W3CDTF">2014-02-12T10:38:52Z</dcterms:modified>
  <cp:revision>14</cp:revision>
  <dc:subject/>
  <dc:title>Александр Иванович Куприн</dc:title>
</cp:coreProperties>
</file>