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578F-F5C8-4523-BCF0-4EEDD704A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32CE-7405-48DB-8551-2B4EA65A6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1108E3-27B2-4448-B1C1-42C68BD68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E9F8A1-D2F3-4E00-8AB9-52B0E8929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71EC41-3668-4EE8-A1E9-E28D2AF5F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253878-8AEC-4C60-997B-32675A61B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98C057-517E-41D0-BD4B-308E235E0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C659D6-7C82-45EA-AFA8-0096710FD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6915A8-89D8-44CD-8324-BAC38C8A8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1BB230-5528-4803-B81E-1028E4361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C7D5E9-9520-40C8-B2EE-61E532D19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41579A-6C9C-4359-BF28-4E9E95407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1BFD-B14C-4D3D-BA0A-194E94317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3381AD-7B99-4C95-9751-42BA79D59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8C2F8A-FA52-4CE3-8487-76FF3487D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5C1B69-1B0E-4685-B0CA-E0FD6111C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3A0994-3619-46F5-A9D6-CBDC47438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C21521-0794-41D1-8188-1CE53B20C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E8FDEA-6B3B-4933-8659-832AD7F6E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9A65D6-D702-499A-81F9-6728C0E3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603B02-9AFA-42C3-A595-79575CC4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6DF9BC-4461-473D-997E-58E39C210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259F72-FD26-45D6-BE20-C098B94A4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3DDF-A042-4E69-8707-D01955413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7E920D-9E81-4B19-846A-584007DF8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CA3846-0366-4EE1-B164-6ABBCB7B1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214889-002D-414B-985D-93A9F2D4F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2D333F-EBAD-43F2-AF5A-0C00D1A69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307663-49CA-4820-8B03-BA0E9C924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A1C88F-019D-401B-BE7F-565CFD259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87DE19-81C5-47F3-AE32-FB94D3530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FEC335-04A5-4A69-9ADE-EEF424B6E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6529A4-1592-49AD-91F3-BD01F5C82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9583D8-9670-40C9-9426-5D8A9D2C1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D31D5-E160-4C5C-B73C-8E71C2223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0C8A1A-4079-4FE8-A813-069F73761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4D460B-799F-4445-9C4D-C10B8D980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E7507D-9997-4837-A62A-7487788DD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C38FED-CB1F-4FA8-88F9-3D71BFC70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48A821-EB82-4ACA-852F-8C13744E3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D20413-1ADE-4254-9762-DD412BF52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E88FB0-BE7F-40CF-A6EE-02134DC71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5B2EE2-C3F5-4D48-BCF7-B75D7305B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2973D8-938B-4FC1-9A71-A4C3D5642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8357ED-1F69-486F-A9BA-15B9999FE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52DEA-B827-4818-8880-3BD809C7C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DF7E31-D20E-4E56-AE9D-37920F003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4F80FF-30C3-4107-BA4C-AF06E6A7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66B3B9-5418-49A3-AE9C-8BB796C08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E0F444-9CC6-401C-92C5-E151F1FFD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3FB2BC-6E7E-4E3F-BDA8-3B7093F85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392402-B331-4B0F-A9B2-69DE17DDE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F5874A-2EF8-4665-9C04-3498A6A4D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3A84CB-1226-4DD8-A9A7-2BD398576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93A4AC-0F31-469F-BB77-1426CE48E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0EAFF0-E821-401B-8CBA-E8C21C5CF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65FAF-2690-486C-9CEC-AFC9B441C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C3C50F-1CA6-428B-A5DC-E290BCAD8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7F484D-486C-4E2A-B68D-5CC117C8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99135F-4316-415E-B92B-842D494D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C46012-D36D-462C-9376-347C5790C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7C12C7-6202-490E-8384-D70B9C14F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07E6EC-FD6D-41FD-AB13-11282B78F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311538-E219-444C-ADD7-1F7C6821D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A9F996-1B78-4B87-81F1-0BC9AF4C3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660352-5C19-4DF2-9F6F-0162F9714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AB8CFC-69E9-4BD0-802B-3E4A18B7B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10D80-8DB4-40BD-99D6-E8DBD37E3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4D8123-468C-4E27-8944-CEFA20B35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0138EE-096A-41F8-8BD7-CCE09F010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0776F5-00B2-4CD2-966E-F36BE0735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90B0B0-5E40-4321-9422-06B001490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2A2447-3C4B-4937-AC7B-29B39711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C459F2-DA2F-453A-8BFD-BD176B8FE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1E494E-D0FD-41DA-B985-248D2B88E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F4EEE5-26E6-4E11-B992-3CD3CBF25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E0DE9C-A87E-4EF3-925D-776E1BFC4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F3B80E-46C3-46FF-A754-A21D14427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350F3-4679-4C5A-B391-07917455F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F7BA7E-77F3-42A9-840F-1D1999F71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C92DC5-3DAF-4013-B163-2218A1754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136762-496B-48B4-8BB2-82B1C1915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94732D-53D7-4233-AD2F-20EA8C925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E8B05A-B56A-4575-B3D9-3679D923E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25D517-6A5C-46B0-9034-FAE73B57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34E746-5A48-4F77-9046-1DACEFC4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7A60FA-32E6-4C68-BE3E-B522358A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7D8177-0AE1-486B-84EF-5854A2980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6636C9-51DE-40E5-85FD-DE45914DF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DEA83-D405-4F54-84F1-7847600E2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7F21CF-573C-47A2-8015-3A5C050FE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D5A2B3-6F7E-43B1-8A71-37CAE5592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D68957-D925-4DD7-805F-743777D9B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D96FD3-237B-4E91-A51B-D1B4446B9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65FF8B-7F0F-4477-928D-5DC923F60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8A0EFA-F9B1-4DFC-AC94-62FB8914F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61A3F1-71C8-4BEC-8BEA-724FD00AD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5FA098-ABB0-420B-8746-1B1E2486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876D4C-D7AC-47F2-A153-018B1842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41C3BE-B2F7-42B5-8EF1-9A9E4B5D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44333-2C26-4880-8D1A-052A9CA25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A832B5-4AED-4B30-9D50-D1B6200C2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22D152-BA9E-45E2-9D06-B04250E77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618045-DD67-480C-900B-B66631C4F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5491C0-05D0-4B43-9955-82DAB9BB0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9B2951-4858-4226-8493-9CF171E39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E28C8C-8331-4BC7-9850-21D16872B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CC0484-8CBE-42F0-A77A-91AD807EC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80F65C-D4AD-4C27-9E91-183368D59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33AADF-0E0A-4495-A1C0-E6E1F6490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9A58E5-532E-4707-A1E8-2D1A5EDCC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37DF-A210-4D90-A9E0-4167B98DB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6ADEC-CCE5-4F63-9F1F-DEFA1DD1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695160-9317-4112-ABDA-30DB13EEF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952B18-948F-4A76-B37A-8DA702985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A00735-BCAC-4F65-8E0B-806596680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362A8C-1C74-43BE-9C7A-492B41F1B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2E6DA4-A144-44E5-A172-3DCF9AEF8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7FE82E-4590-4089-818F-4A6AE7756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5C1EA3-02E1-4042-A30A-F99A81BA1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CE4F92-911D-4058-BAD7-3529A91C9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DD01C0-1A2F-4682-AF67-9A9C78BC0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2009DD-F5B0-42CD-A620-6377D9063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A1345-227E-4AE5-8A87-FE96E4D7C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AFC640-DF3B-4516-BF7F-2E7B3B92F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2828D1-0A79-409F-8026-8ADD78C52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3C8FAB-E756-404B-89FA-5362AF8B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BF0F83-F0C3-4566-886C-BECFDF9C3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314BDD-C9A4-4D2C-BBDD-4935DA5EC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272116-7301-4398-8BB7-F31451DDD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68F827-0C80-4745-8955-707327592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C81D62-47A1-4D9D-9A6B-7A1232835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28A10A-2959-40A8-9E2D-E4BA568B9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2F2922-A67A-4052-8C01-0369D37E0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E7656-7C82-445B-9E1C-051BC7583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D3DD53-7006-496D-BA1C-C7B1E185C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2D656E-C820-4FA3-A768-296AC2A1F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FD458D-A4C2-4E12-8AC4-01C993CFD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5079B4-D2CE-4BAA-9298-45767E29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7DCE40-C692-4F78-9AD5-2DCAAE34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ECD412-8A82-42C9-BD28-20DD4CA1A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1F223B-B3A8-4E22-96E7-B33286641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77F293-1BBC-4E2A-85BD-25BBCC427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83C3E5-032B-4D95-9636-E11CA3EB5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FBC3A5-A905-475B-9EED-B4C8C82A6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F8FBF-0D94-44BD-91F6-77DB2399D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3C5A01-2ECB-4D43-8978-9500AE1FF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071BA8-FA7E-4293-B5AD-78C8EAB8E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D1A0EC-69E9-439B-B42C-478CD3104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586347-70B6-43C0-9FD6-6F4B78CB0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2C1753-2702-4AE1-A863-0E6E4A083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CB9CF1-6D20-4327-9D0D-4E4B7205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167966-1843-4D4E-86E8-06F5573CC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170B55-ECA3-41C4-9C79-7B3B86FC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38A97F-0F85-46F9-9A4A-6A824763E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449ECC-7105-472B-B252-91726DFF1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A5C5A-E162-46CE-B7BE-4A39C6466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289B2C-9817-4595-AF16-C27F2D70D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32A5EF-A807-48AE-A98E-148B459FF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4B5AA2-CD06-4565-B677-E55C6E58C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B8BF51-7D69-44FB-8C3F-8EA0CB985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7C0D4A-061E-488F-B6C6-0E2A7C958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1118E9-CB9E-4F3A-ADE3-5A02CF1C7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8C0238-6DB5-4562-8882-60EC90347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B8CE1D-5884-48CD-A4B2-79D104A41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11A51C-56C5-4046-9F04-E1F3B7AE8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8CF577-F1BA-470E-AC2E-5361D66B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16828-DF8D-4EAD-8D36-3B79AD991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16D823-41A3-456C-B01F-85697D7EA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F89DF8-0883-4DB8-906C-0E401795D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C769C1D-300E-445F-B4E4-110FA7D5A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B366978-ACBB-4DC6-8BAF-54D681E76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12E6335-D704-4B82-B504-560593A0D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ED8F2CB-B6B7-4FA3-9076-F9573973F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70D9421-7C59-4898-A4EB-055B22B38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88F4A99-26FD-4590-A531-08E316008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F68299F-017D-4309-A718-CD42A0A7F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5CA3C91-6DC5-45B8-A4C8-E179A5079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EF246-A97E-4363-8301-9C1A24C04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213F9B7-7C6C-4F06-B90D-EDB7114C2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FA42C47-C949-47A9-A319-BA4321EE5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D3ABB09-2BA5-44F0-9478-8AAED9953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47680C3-34AC-4904-9542-77FBBB66B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EBE4282-3F0B-41BC-A950-80851E467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565178A-522D-4958-9D6D-5198C3AC3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3852CF0-AFFD-4850-8010-E92B1AC12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DFA7631-DAF4-44B5-8586-B57EE1AB0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19DBA9B-934F-4CC0-8147-4D36D30CF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8C02F04-A06C-41B2-8C40-D4C5928D0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ADBBE-4DD2-413C-94DC-8B37A162A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D592D5C-3393-4898-AE46-429E65458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91A57C3-DFF1-4F42-8DC3-1D03EA330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8C7321D-8AB6-4A6A-A48E-DD3144C63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56B07B5-0436-4F42-99BC-5D2D5548C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4BBED6F-9D83-4CBD-A412-4A847B50A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DFF26A8-9622-4CC1-B067-7E98CE770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3A38288-6152-41ED-A806-259407150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7AC38B5-BEAC-454F-B59A-2CB6E3710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F624C9D-654B-4E7D-993E-F5EAD4A32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9DDCC52-800D-439E-9914-1587E696B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2E1F4-BD14-455D-AEF8-67FBA25B2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E6AEE95-2245-42E4-8EB5-DFE247594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A79237E-5658-4D4A-9D3D-E07B192E2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6C221AD-78D8-4110-B41D-8813871C8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5F95341-1E60-4905-99FC-6607874EE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AF1D6CB-95B6-4F65-9E3F-951552EF2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FAB3F79-CF51-4FD5-B7F7-FCF948B60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1D7EC39-C687-4FD8-A8BA-D312F5788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3BE962B-3A56-486D-9198-0015A98E2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9918661-9A26-4DE0-8750-B3C5C388C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3BF97-24D8-4207-9891-A2BB6D33E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D819-EDDA-45A4-888D-44558321E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1234F-B294-4A1E-909F-79937C7B1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089F9-B911-48C7-A09A-F412BF204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00357-C319-47F4-AD4F-5F839760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772F7-B6C5-4DE7-9D6D-13C5BF12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2F550-4415-4C52-B90F-4240291F9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FEC86-66E8-4327-82CC-230BE334D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330CD-3FB0-42F1-A2AF-E3377C96F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5AA7A-D17E-49DE-8032-D9CC7032F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3CEBF-1295-43A3-B8A2-DBF4EC277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BB087-A2F5-4BA1-B837-6AAB4CCE9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7784-5F9F-4DF4-81BF-943C91B07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D21DE-FDBF-41C1-8BE1-5EA062E6B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DE54C-B9BF-4882-8AEA-1430DE42A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17899-EB5A-4F9E-A254-2F6DED6CE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3B0A0-1C5B-4EA8-A0F4-F5A7C978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5950D-743F-4C66-95F2-A14499188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A5D93-43AB-4BDC-908C-14266FB99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38A38-301D-4697-B809-00A83B63C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9522C-4F6E-4976-8D3F-DFC317F5E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90FF6-BC66-4C5F-86E0-FCC228967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4946C-2A07-46A6-86E1-D8E24850C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B7FB-8A8F-49CC-B14D-3B8E87E68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A86830-9A9F-4EB8-B8D1-074FC2AC9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7CDC4-9159-423C-ACDB-93E8D950F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3D162C-9236-4B85-8486-721B5922D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BFA0F-7B53-487A-B322-41BD4E8A8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329943-3938-4BB0-B52C-D31F46C4A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95F8D-2F4E-4E30-9B03-9F3397934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F713D-F513-475C-BEF0-AFB7EF60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0025DA-150F-48EC-9947-B4214E9DA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6FBD9A-A836-46CD-B723-E038AAAF7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B59A7-DC8C-4CF9-AF64-3259EACEB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710C-7023-4495-8ACB-07E33BA6A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70AEC8-011A-4024-B00F-75FAAF8D3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A64D06-A14F-4292-BE81-E15306656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8FCD1-B161-4044-AF92-D9839DB01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280AE2-0EB4-4F7D-B4BC-3383A8E55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6C439C-F443-4D7C-9C89-0E6D8F919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746D2B-B928-49FC-909A-F337D14BA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205793-3825-46FC-B795-32A5DB8D0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C3EB0C-3E84-48C0-900B-F9B2DE4A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8C1E6C-D3D6-41BC-ABE3-0AD93D97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4C7F35-305E-4F93-BFE4-E6A1914DC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269B-0792-4FF0-88A7-896F4E4F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19F9E1-C20A-4D1F-876F-B56728C55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D30341-2ACC-444C-918E-74DBBB88D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04351-63D0-41F8-86C9-08ECBE2A4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5D7F4D-3F33-45F0-BA08-B8ED47F85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24B02F-EA03-48D8-B0B0-FA949F6C1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B0B805-247A-49FD-860B-01306C98B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FBE513-7ECE-44D9-9C0B-2E141F649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94A439-770B-47E8-A4B0-E92B20183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6B56E9-ED95-4B5A-B42E-24AC33166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08D9B1-439E-44CC-A9C2-873D90E0B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D8E6-6246-402C-9D2B-D3A17D722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0A0424-E569-4B76-BA78-9E7DB1E1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A8119C-F4F8-417A-891F-E1D34B504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C51E7B-9AB0-4083-9579-13986C96E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E3238C-429A-4549-B929-98CD18D30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D2B1FE-969D-4710-B273-C271D2932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53519D-8252-49AE-AC7D-B7D095F19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705543-3B48-4C41-9123-2D7C99BB7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A14EFD-D0CF-4290-AD56-81A7C5EDF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36C644-B60F-437F-93AA-FEBB84692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3E4ACA-02C1-4485-88FF-39045389D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7C7C-78B0-4F55-B8BB-E3AF9491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87BE9F-ABC0-4415-8695-B9FCAE292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FBBA61-D811-473D-92D6-25B7EC01D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EA426C-EC10-4BB1-A4A3-D85EF725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76724D-A4B6-4C69-880E-0DE3D491F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B25364-A81E-4D2F-93BA-2C87A4680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210EC6-D686-4D0C-8548-6ADE44A81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44EBB7-DCB1-4422-BB3A-543D9BE2D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2E7FD7-4036-4745-B13B-075012F41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3A87AD-552B-4DE2-8029-E91E23F68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C9B717-198E-47A3-9730-5893302F7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F8E41-004F-4356-97AC-93C239EA1E1D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B1DEC-A165-4A3F-839C-A26D0D0D275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2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D2EA1-2C27-49DC-835A-57919B1DED6E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2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49F53-7E9D-4065-8775-C8374BF0C95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3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9ADAE-3980-4E71-B1F3-9998F542A473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ftr" idx="3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sldNum" idx="3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225A1-7BD7-4228-A7B5-48CC5EB39B4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dt" idx="3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8CBE5-7909-4EC6-983C-D023975AFEA9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 type="ftr" idx="3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 type="sldNum" idx="3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162CC-2B7B-4AA3-8835-CA3686D165A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3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0A9F8-98B8-45CB-8B75-46E94CCBEC4F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3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3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5BA9D-E379-412D-B37C-2DFD378FC34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65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5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65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59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660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3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664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5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6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7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8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6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82362-DB2D-4BC0-A820-B5CAA91DEDD3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0A2A3-5E5D-4FB1-AE58-6220202EF1A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 type="dt" idx="4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5E324-1B1B-4E43-AB06-6DF6CB285D6B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 type="ftr" idx="4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 type="sldNum" idx="4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46286-84B9-4878-95F9-726873C856E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 type="dt" idx="4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147FD-5731-4A91-9CA6-D512444A2E05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 type="ftr" idx="4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 type="sldNum" idx="4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E1869-4EBF-4294-A79C-8E8D99D3AC1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 type="dt" idx="4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EF166-C4F3-4CDF-88F7-4F3D45CAAC66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 type="ftr" idx="5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 type="sldNum" idx="5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239BE-89E7-464B-9B92-8222FE4131C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88884-A7AF-4349-87CB-F9385A60D688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5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D112E-93A1-44F7-A977-78AF205F0F0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 type="dt" idx="5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19404-1873-46A7-B74C-7ABD141A2410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 type="ftr" idx="5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 type="sldNum" idx="5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A5991-399C-44F5-9125-01F1231D7DE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6A0ED-CC0C-47F2-AA2E-7C3DAF45B158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17C35-C69D-4BE7-986C-59BF00942CF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1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1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12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5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126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12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28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129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0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1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2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3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4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5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6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3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 type="dt" idx="5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B939E-DD9A-4F80-9EE6-BC2AC20CFD2A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 type="ftr" idx="5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 type="sldNum" idx="6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D7ED7-B89A-4930-85E8-F327BDE84DB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9DB6A-3407-44A1-9AA9-5BFA7BAF36E7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D6F09-750C-4B38-BBDC-4C49CA48830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 type="dt" idx="6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9C610-7BE0-4A53-96BB-B4FE672CC7F6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 type="ftr" idx="6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 type="sldNum" idx="6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320BE-D873-4C63-9CB4-6CFE3114E41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 type="dt" idx="6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1D784-C143-4DA4-8951-6313B9DA3A6D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 type="ftr" idx="6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5"/>
          <p:cNvSpPr>
            <a:spLocks noGrp="1"/>
          </p:cNvSpPr>
          <p:nvPr>
            <p:ph type="sldNum" idx="6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DA06E-5FF5-468B-A184-58A6324AED8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 type="dt" idx="7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4BBFC-E66E-4571-B4DD-B172E0CE3CD6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 type="ftr" idx="7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 type="sldNum" idx="7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07AF0-770A-4D37-BBBA-A40A3BA95C7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5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6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79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80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85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86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9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90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95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859E2-CF2B-4131-88E5-1DC1D3D0EC63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7CCFE-6505-4D75-9D1F-89B4617ED81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A0563-D486-4B9B-A112-A307C5455992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EC172-8C81-4262-8EB6-641B71014AD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64AA0-4F5D-4A75-8AC6-E6BEBB25208B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07F35-8428-44CC-837C-E1E2FF1EF33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EBD4B-9D55-4BF2-A1D2-8F38A8920408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91EF2-C6AC-4523-89A6-5719F666B30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0B933-BF99-4801-B1E1-6DFA07E27E5B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2A3A8-1195-4E34-A4EC-13B0BC79116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542C3-7D83-41D8-9229-D7A2C784F154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1480B-2B32-4C58-8B75-E3BD71BD43F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4980B-8F03-442A-A24C-788B342F6BDB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BDBF0-C332-4A49-BB1C-76B14AD8E19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Прямоугольник 1" descr=""/>
          <p:cNvPicPr/>
          <p:nvPr/>
        </p:nvPicPr>
        <p:blipFill>
          <a:blip r:embed="rId2"/>
          <a:stretch/>
        </p:blipFill>
        <p:spPr>
          <a:xfrm>
            <a:off x="1865160" y="950760"/>
            <a:ext cx="5828040" cy="2603520"/>
          </a:xfrm>
          <a:prstGeom prst="rect">
            <a:avLst/>
          </a:prstGeom>
          <a:ln w="0">
            <a:noFill/>
          </a:ln>
        </p:spPr>
      </p:pic>
      <p:sp>
        <p:nvSpPr>
          <p:cNvPr id="1123" name="TextBox 2"/>
          <p:cNvSpPr/>
          <p:nvPr/>
        </p:nvSpPr>
        <p:spPr>
          <a:xfrm>
            <a:off x="3155400" y="468324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4" name="Picture 2" descr="C:\Users\SunnyBeam\Pictures\sch009.png"/>
          <p:cNvPicPr/>
          <p:nvPr/>
        </p:nvPicPr>
        <p:blipFill>
          <a:blip r:embed="rId3"/>
          <a:stretch/>
        </p:blipFill>
        <p:spPr>
          <a:xfrm>
            <a:off x="227160" y="2492280"/>
            <a:ext cx="3600360" cy="3205080"/>
          </a:xfrm>
          <a:prstGeom prst="rect">
            <a:avLst/>
          </a:prstGeom>
          <a:ln w="0">
            <a:noFill/>
          </a:ln>
        </p:spPr>
      </p:pic>
      <p:sp>
        <p:nvSpPr>
          <p:cNvPr id="1125" name="TextBox 3"/>
          <p:cNvSpPr/>
          <p:nvPr/>
        </p:nvSpPr>
        <p:spPr>
          <a:xfrm>
            <a:off x="5540760" y="3141720"/>
            <a:ext cx="182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ля глаз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TextBox 4"/>
          <p:cNvSpPr/>
          <p:nvPr/>
        </p:nvSpPr>
        <p:spPr>
          <a:xfrm>
            <a:off x="4553640" y="3789360"/>
            <a:ext cx="409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то положено. Требования СанПи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7" name="TextBox 5" descr=""/>
          <p:cNvPicPr/>
          <p:nvPr/>
        </p:nvPicPr>
        <p:blipFill>
          <a:blip r:embed="rId4"/>
          <a:stretch/>
        </p:blipFill>
        <p:spPr>
          <a:xfrm>
            <a:off x="414360" y="5742000"/>
            <a:ext cx="7699320" cy="884160"/>
          </a:xfrm>
          <a:prstGeom prst="rect">
            <a:avLst/>
          </a:prstGeom>
          <a:ln w="0">
            <a:noFill/>
          </a:ln>
        </p:spPr>
      </p:pic>
      <p:sp>
        <p:nvSpPr>
          <p:cNvPr id="1128" name="Нижний колонтитул 7"/>
          <p:cNvSpPr/>
          <p:nvPr/>
        </p:nvSpPr>
        <p:spPr>
          <a:xfrm>
            <a:off x="0" y="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250" autoRev="1" fill="hold"/>
                                        <p:tgtEl>
                                          <p:spTgt spid="11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9" name="Picture 2" descr="C:\Users\SunnyBeam\Pictures\мяч1.png"/>
          <p:cNvPicPr/>
          <p:nvPr/>
        </p:nvPicPr>
        <p:blipFill>
          <a:blip r:embed="rId2"/>
          <a:stretch/>
        </p:blipFill>
        <p:spPr>
          <a:xfrm>
            <a:off x="3995640" y="5445000"/>
            <a:ext cx="901800" cy="90036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2" descr="C:\Users\SunnyBeam\Pictures\мяч1.png"/>
          <p:cNvPicPr/>
          <p:nvPr/>
        </p:nvPicPr>
        <p:blipFill>
          <a:blip r:embed="rId3"/>
          <a:stretch/>
        </p:blipFill>
        <p:spPr>
          <a:xfrm>
            <a:off x="7147080" y="544500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2" descr="C:\Users\SunnyBeam\Pictures\мяч1.png"/>
          <p:cNvPicPr/>
          <p:nvPr/>
        </p:nvPicPr>
        <p:blipFill>
          <a:blip r:embed="rId4"/>
          <a:stretch/>
        </p:blipFill>
        <p:spPr>
          <a:xfrm>
            <a:off x="3995640" y="90792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3" descr=""/>
          <p:cNvPicPr/>
          <p:nvPr/>
        </p:nvPicPr>
        <p:blipFill>
          <a:blip r:embed="rId5"/>
          <a:stretch/>
        </p:blipFill>
        <p:spPr>
          <a:xfrm>
            <a:off x="1042920" y="4797360"/>
            <a:ext cx="949320" cy="947880"/>
          </a:xfrm>
          <a:prstGeom prst="rect">
            <a:avLst/>
          </a:prstGeom>
          <a:ln w="0">
            <a:noFill/>
          </a:ln>
        </p:spPr>
      </p:pic>
      <p:sp>
        <p:nvSpPr>
          <p:cNvPr id="1133" name="Нижний колонтитул 5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лифиренко Е.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БОУ СОШ №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4" name="мне мама тихо говорила.mid" descr=""/>
          <p:cNvPicPr/>
          <p:nvPr/>
        </p:nvPicPr>
        <p:blipFill>
          <a:blip r:embed="rId6"/>
          <a:stretch/>
        </p:blipFill>
        <p:spPr>
          <a:xfrm>
            <a:off x="250920" y="189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6912E-006 C 0.21059 -4.46912E-006 0.38212 -0.17534 0.38212 -0.39185 C 0.38212 -0.60883 0.21059 -0.78394 -3.33333E-006 -0.78394 C -0.21076 -0.78394 -0.38177 -0.60883 -0.38177 -0.39185 C -0.38177 -0.17534 -0.21076 -4.46912E-006 -3.33333E-006 -4.46912E-006 Z">
                                      <p:cBhvr>
                                        <p:cTn id="16" dur="2000" fill="hold"/>
                                        <p:tgtEl>
                                          <p:spTgt spid="1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" dur="20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6912E-006 C 0.21059 -4.46912E-006 0.38212 -0.17534 0.38212 -0.39185 C 0.38212 -0.60883 0.21059 -0.78394 -3.33333E-006 -0.78394 C -0.21076 -0.78394 -0.38177 -0.60883 -0.38177 -0.39185 C -0.38177 -0.17534 -0.21076 -4.46912E-006 -3.33333E-006 -4.46912E-006 Z">
                                      <p:cBhvr>
                                        <p:cTn id="20" dur="3000" fill="hold"/>
                                        <p:tgtEl>
                                          <p:spTgt spid="1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20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7037E-006 C 0.21511 -3.7037E-006 0.39046 0.11042 0.39046 0.24746 C 0.39046 0.38496 0.21511 0.49607 5E-006 0.49607 C -0.21511 0.49607 -0.38924 0.38496 -0.38924 0.24746 C -0.38924 0.11042 -0.21511 -3.7037E-006 5E-006 -3.7037E-006 Z">
                                      <p:cBhvr>
                                        <p:cTn id="24" dur="2000" fill="hold"/>
                                        <p:tgtEl>
                                          <p:spTgt spid="1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" dur="20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07407E-006 C 0.06076 0.11713 0.1783 0.14953 0.26146 0.07268 C 0.35937 -0.0176 0.33993 -0.15625 0.3217 -0.23357 L 0.29288 -0.33311 C 0.275 -0.41112 0.25764 -0.55139 0.36823 -0.65348 C 0.43923 -0.71875 0.56909 -0.69815 0.62986 -0.58102 C 0.69062 -0.46412 0.65955 -0.29468 0.58854 -0.22917 C 0.47795 -0.12709 0.38541 -0.19815 0.33698 -0.24792 L 0.27743 -0.31899 C 0.22951 -0.36899 0.13923 -0.4419 0.04132 -0.35162 C -0.04202 -0.27477 -0.06077 -0.1169 3.05556E-006 4.07407E-006 Z">
                                      <p:cBhvr>
                                        <p:cTn id="28" dur="3000" fill="hold"/>
                                        <p:tgtEl>
                                          <p:spTgt spid="1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246326" fill="hold"/>
                                        <p:tgtEl>
                                          <p:spTgt spid="1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3:40:25Z</dcterms:created>
  <dc:creator>Admin</dc:creator>
  <dc:description/>
  <dc:language>en-US</dc:language>
  <cp:lastModifiedBy>каб_12</cp:lastModifiedBy>
  <dcterms:modified xsi:type="dcterms:W3CDTF">2014-02-10T10:23:09Z</dcterms:modified>
  <cp:revision>6</cp:revision>
  <dc:subject/>
  <dc:title>Презентация PowerPoint</dc:title>
</cp:coreProperties>
</file>